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C1F6-E62C-4F3B-B5A5-AA934E86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266-CFD0-4082-951B-9448AC20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1360-2DE5-4B31-A680-AA771C73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B77-4AEA-47A7-A2EA-8C44AE1C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07E8-1C59-47CA-B66F-D0D1A498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D059-D744-41FA-B235-17419EE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C011-B02E-4249-9C60-1AA23030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4A46-5171-46A4-9E44-EC887C5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BD68-D881-4ECE-A78B-C58E1A6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0A4D-B91A-489B-B1CA-A605CD95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CAEB-6552-4940-B39D-4983EF6B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BE3-F90C-43D4-A3E8-604191C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44E-3D26-4692-994E-7A250BB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C72B-6332-4062-AB17-C508F3BB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29C4-B0D6-49EF-985B-75E1E52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498-1F65-4688-817A-96093871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064-A71D-441F-AC34-A51AB158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F5BF-423C-40FB-B782-6D4B3BF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15F-7038-4289-8D20-B0A94337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0730-C4B0-45A8-8557-522372C5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E77-5F5B-4A55-B63C-4884D9CB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171-8770-4FB2-B39D-8F1B6BF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918-250A-4DB9-BA93-1FD7D26D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9823-E821-463B-8463-949FB1AE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A313-CC11-4FC5-A0A8-9C2DABDB9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8250-903D-4A93-A394-FE7CC4CEF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1883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492280"/>
            <a:ext cx="5472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, основные методы и разделы почвове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чвообразовательный   процесс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573408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ция №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p004"/>
          <p:cNvPicPr/>
          <p:nvPr/>
        </p:nvPicPr>
        <p:blipFill>
          <a:blip r:embed="rId1"/>
          <a:stretch/>
        </p:blipFill>
        <p:spPr>
          <a:xfrm>
            <a:off x="7451640" y="2492280"/>
            <a:ext cx="143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183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66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естественно-историческое, природное образование, рыхлое и динамичное, сформировавшееся на земной поверхности при взаимодействии геологических пород и живых организмов в определенных климатических условиях и рельефа со временем и обладающее плодороди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ы почвообраз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има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льеф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чвообразующие пород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ые организм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11280" y="260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о ч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006_lov_s_flora4"/>
          <p:cNvPicPr/>
          <p:nvPr/>
        </p:nvPicPr>
        <p:blipFill>
          <a:blip r:embed="rId1"/>
          <a:stretch/>
        </p:blipFill>
        <p:spPr>
          <a:xfrm>
            <a:off x="4500720" y="4149720"/>
            <a:ext cx="1981080" cy="151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3115a"/>
          <p:cNvPicPr/>
          <p:nvPr/>
        </p:nvPicPr>
        <p:blipFill>
          <a:blip r:embed="rId2"/>
          <a:stretch/>
        </p:blipFill>
        <p:spPr>
          <a:xfrm>
            <a:off x="6156360" y="5013360"/>
            <a:ext cx="24861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биосфере Земли почва выполняет ряд функци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условия существования жизни на земной поверхности за счет аккумуляции биофильных элементов, самовосстановления и самоочищения среды оби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ирует развитие и взаимосвязь геологического и биологического круговоротов веществ и потоков энерг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накопление органического вещества, главным образом в виде почвенного гумуса, являющегося хранителем живой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2006_lov_s_flora2"/>
          <p:cNvPicPr/>
          <p:nvPr/>
        </p:nvPicPr>
        <p:blipFill>
          <a:blip r:embed="rId1"/>
          <a:stretch/>
        </p:blipFill>
        <p:spPr>
          <a:xfrm>
            <a:off x="900000" y="573408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006_lov_s_flora1"/>
          <p:cNvPicPr/>
          <p:nvPr/>
        </p:nvPicPr>
        <p:blipFill>
          <a:blip r:embed="rId2"/>
          <a:stretch/>
        </p:blipFill>
        <p:spPr>
          <a:xfrm>
            <a:off x="6732720" y="5661000"/>
            <a:ext cx="187308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115c"/>
          <p:cNvPicPr/>
          <p:nvPr/>
        </p:nvPicPr>
        <p:blipFill>
          <a:blip r:embed="rId3"/>
          <a:stretch/>
        </p:blipFill>
        <p:spPr>
          <a:xfrm>
            <a:off x="3708360" y="5661000"/>
            <a:ext cx="24861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ва представляет собой сложную саморегулирующуюся поликомпонентную многофазную систему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ЗЫ        ПОЧ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вердая фаз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дк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азо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p004"/>
          <p:cNvPicPr/>
          <p:nvPr/>
        </p:nvPicPr>
        <p:blipFill>
          <a:blip r:embed="rId1"/>
          <a:stretch/>
        </p:blipFill>
        <p:spPr>
          <a:xfrm>
            <a:off x="4427640" y="2205000"/>
            <a:ext cx="1712880" cy="316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007"/>
          <p:cNvPicPr/>
          <p:nvPr/>
        </p:nvPicPr>
        <p:blipFill>
          <a:blip r:embed="rId2"/>
          <a:stretch/>
        </p:blipFill>
        <p:spPr>
          <a:xfrm>
            <a:off x="6516720" y="3141720"/>
            <a:ext cx="158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чвообразовательный процесс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еологическим круговоротом вещест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зываются геологические процессы превращения и перемещения массы горной породы, совершающиеся на протяжении геологических эпох. В геологическом круговороте образуется рыхлая кора выветривания в виде различных по генезису осадочных пород. В коре выветривания создаются предпосылки для поселения растительности и развития почвообразования, так как она обладает пористостью, водо- и воздухопроницаемостью и содержит некоторое количество зольных элементов питания раст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лый биологический круговоро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ществ обусловлен жизнедеятельностью живых организмов и, прежде всего зеленых растений. Характерными чертами его явля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влечение из материнской горной породы элементов пит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тез биомассы и включение элементов питания в состав сложных, нерастворимых в воде органических соедин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врат в формирующуюся почву этих соединений с ежегодным опадом отмирающей биомассы в виде наземного опада и кор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важные слагаемые почвообразовательного процесс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евращение (трансформация) минералов горной породы, из которой образуется почва  (а в дальнейшем и самой почвы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акопление в ней органических остатков и их постепенная трансформац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заимодействие минеральных и органических соединени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акопление (аккумуляция) в верхней части почвы ряда биофильных элементов, и прежде всего элементов питан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передвижение продуктов  почвообразования с током влаги по вертикальной толще формирующейся поч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p011"/>
          <p:cNvPicPr/>
          <p:nvPr/>
        </p:nvPicPr>
        <p:blipFill>
          <a:blip r:embed="rId1"/>
          <a:stretch/>
        </p:blipFill>
        <p:spPr>
          <a:xfrm>
            <a:off x="7236000" y="3284640"/>
            <a:ext cx="165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тератур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055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 Почвоведение. Под ред. И.С. Кауричева. – М.: Колос, 1982. - с.5-17; 37-4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 В.Д. Муха. Агропочвоведение. – М.: КолосС, 2003. – с.5-12; 29-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ить предмет, основные методы и разделы почвоведения, познакомиться с общей схемой почвообразовательного  процесса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ле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мет, основные методы и разделы почвоведения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новение и создание генетического почв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о поч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схема почвообразовательного процес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чвоведение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05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почвах, их образовании, строении, составе и свойствах; о закономерностях их географического распространения; о процессах взаимосвязи с внешней средой, определяющих формирование и развитие главнейшего свойства почв – плодородия; о путях рационального использования почв в сельском и народном хозяйстве и об изменении почвенного покрова в агрикультурных условия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воведение является широкой естественно научной дисциплиной.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9280" y="3429000"/>
            <a:ext cx="446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даменталь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ка, химия,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547640" y="2492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ж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2626920" y="2997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932360" y="299736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88000" y="3562200"/>
            <a:ext cx="4356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ые, сельскохозяйственные и экономические нау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я, геология, агрохимия, земледел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ажные разделы почвовед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формировании и развитии (генезисе)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очвенном покров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лодородии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ка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я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лог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граф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рономическое, лесное, мелиоративное почвоведение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ссификация поч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оды исследования в почвоведен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географ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аналит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ационарны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 моделирования почвенных процессов и режи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ьные мет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зучение почвенного профи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Изучение почвенного профиля"/>
          <p:cNvPicPr/>
          <p:nvPr/>
        </p:nvPicPr>
        <p:blipFill>
          <a:blip r:embed="rId1"/>
          <a:stretch/>
        </p:blipFill>
        <p:spPr>
          <a:xfrm>
            <a:off x="395280" y="4076640"/>
            <a:ext cx="223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новоположник почвоведения В.В.Докучаев (1846-1903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В. В. Докучаев"/>
          <p:cNvPicPr/>
          <p:nvPr/>
        </p:nvPicPr>
        <p:blipFill>
          <a:blip r:embed="rId1"/>
          <a:stretch/>
        </p:blipFill>
        <p:spPr>
          <a:xfrm>
            <a:off x="395280" y="1484280"/>
            <a:ext cx="201600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ttp://www.soilmuseum.narod.ru/images/dokuch.jpg"/>
          <p:cNvPicPr/>
          <p:nvPr/>
        </p:nvPicPr>
        <p:blipFill>
          <a:blip r:embed="rId2"/>
          <a:stretch/>
        </p:blipFill>
        <p:spPr>
          <a:xfrm>
            <a:off x="3635280" y="256536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soilmuseum.narod.ru/images/dokuchaev.jpg"/>
          <p:cNvPicPr/>
          <p:nvPr/>
        </p:nvPicPr>
        <p:blipFill>
          <a:blip r:embed="rId3"/>
          <a:stretch/>
        </p:blipFill>
        <p:spPr>
          <a:xfrm>
            <a:off x="6659640" y="1268280"/>
            <a:ext cx="19047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826920" y="52293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ей монографи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Русский чернозём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он впервые рассматривает почву как самостоятельное природное тело, формирующееся под воздействием 5 факторов: живых организмов, свойств породы, рельефа, климата и времени развития. 1883 год считается временем возникновения почвоведения как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учный вклад Докучаева В.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первые предложил естественноисторический метод бонитировки почв, имеющий важное значение в современных приёмах качественной оценки земель и земельного кадаст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л научную классификацию почв, основанную на генетическом принципе (1886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ниге "Наши степи прежде и теперь" (1892) изложил план борьбы с засухой, поразившей чернозёмную полосу России в 1891, который предусматривал комплекс мер воздействия на всю природу степной зо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е о широтных (горизонтальных) и вертикальных "естественноисторических зонах" составило главное содержание русской научной школы в физической географии. Выделены семь мировых зон (бореальная, северная лесная, лесостепная, степная, сухих степей, аэральная зона пустынь, субтропическая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л учение об эволюции почв, понимая при этом почвообразовательные процессы "как вечно изменяющиеся функции" природных факто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ченые - почвове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тычев П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агрономического почвоведе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бирцев Н.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 заведующий первой кафедры ген. Почвоведения, написал первый учебник по почвоведению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сович П.С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оположник химических, физических свойств поч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дрой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Учение о поглотительной способности поч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льям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Р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биологического направления в почвоведен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4:56:07Z</dcterms:created>
  <dc:creator>Админ</dc:creator>
  <dc:description/>
  <dc:language>en-US</dc:language>
  <cp:lastModifiedBy>Женис Бахытбекович</cp:lastModifiedBy>
  <dcterms:modified xsi:type="dcterms:W3CDTF">2013-12-04T11:22:09Z</dcterms:modified>
  <cp:revision>5</cp:revision>
  <dc:subject/>
  <dc:title>Предмет, основные методы и разделы почвоведения.  Общая схема       почвообразовательного    процесса</dc:title>
</cp:coreProperties>
</file>